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88805"/>
        <c:axId val="17099853"/>
      </c:barChart>
      <c:catAx>
        <c:axId val="79988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99853"/>
        <c:crosses val="autoZero"/>
        <c:auto val="1"/>
        <c:lblAlgn val="ctr"/>
        <c:lblOffset val="100"/>
        <c:noMultiLvlLbl val="0"/>
      </c:catAx>
      <c:valAx>
        <c:axId val="17099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88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A4B-5F2D-458C-8FFC-B9B2A78F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E65-4BD8-4185-8C78-FB6807F0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E60-C717-4E1D-BD24-2DD1ECA3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55C-CD9B-434F-A22D-5CC1B469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F46-90DB-4649-89DA-F3E0F8FA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9FC-3C37-422E-A40C-2D3A8E3C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2C3-FEA2-40A4-9802-192F9C1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1A1-CA7F-42EE-BAA2-84FEDA76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B63-09C3-4E02-92BC-2A7B4C4C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8D8-30D0-48BD-B556-5A2C0DFA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765-B288-4BC2-BEA8-8A25D18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D70-DE61-4B61-BFA5-CFC7C390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2FE93-7A0F-4EF2-A6E3-4EB45DB5E0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